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C61-5B1F-441E-86A1-63B3C907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511-BB89-4422-831B-E14D07BC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243-F630-4186-A4E7-60CF3647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5F8-39ED-4378-B3A9-BC78775E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D29-0DA2-4DBD-8AA7-8F26823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95C-7339-45E8-97DC-8806531B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033-A6E9-4D13-A791-A35A8F54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5D3-7106-4E3B-A88B-F4FFFCB4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7D6-62C0-401D-8CE3-23D5AED4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B82-5BA3-442D-AC46-4CC6B2B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8C4-E39C-4812-846C-B132D7D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089-48CE-4AFF-940C-FC83A068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9A22-B112-441A-9105-4D8FC5DB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thefloweringearth0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которые свойства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7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апреля 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5229360"/>
            <a:ext cx="776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рок геометрии в дистанционной форме. 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4348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0216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41852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0080" y="476280"/>
            <a:ext cx="787428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252360"/>
            <a:ext cx="792000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3672000" cy="271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1628640"/>
            <a:ext cx="72723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§3, раздел 35 - Некоторые свойства прямоугольных треугольник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задачу, прислать фото ре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47280" y="4436640"/>
            <a:ext cx="309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данным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длину 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ледующее занятие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по геометрии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09.04.202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4437000"/>
            <a:ext cx="741708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floweringearth0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й адрес  электронной поч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0T15:26:07Z</dcterms:created>
  <dc:creator>Севастьянова Гузель Фатыховна</dc:creator>
  <dc:description/>
  <dc:language>en-US</dc:language>
  <cp:lastModifiedBy>Севастьянова Гузель Фатыховна</cp:lastModifiedBy>
  <dcterms:modified xsi:type="dcterms:W3CDTF">2020-04-06T19:15:12Z</dcterms:modified>
  <cp:revision>35</cp:revision>
  <dc:subject/>
  <dc:title>Слайд 1</dc:title>
</cp:coreProperties>
</file>